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3E0F-420C-42CB-97F2-8AD68BCF701A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956B-0C51-4CFC-BC95-A2B25567B6E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F09F-1573-4A64-BB6E-FFE50439D7C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0668-94AE-4735-A68B-876319C09D8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3D8F-FC8E-4185-895B-AAA124A13C1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B3DD-DDF9-4BDE-88C1-C0A0D704F30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6584-E013-4A82-AADA-44C3E970D2D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7F61-4924-4866-8FA0-228EBCBAD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C0E6-9CBA-42B4-9B81-6FA32330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58A6-A636-4C27-9BFC-ADAE04EE3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DA53-FEA2-48C6-8FE3-3026D3692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C6B1-25AB-4F09-BA58-90BD0073E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30BA-D4FB-4763-8234-66E103AF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77BA-8051-4B87-84C7-1D08AA5C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00DE-58B8-4D25-B3B5-92AA71BF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63E3-34F1-49FB-895A-73C20480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A368-9EDF-45CD-86C6-615CD9F2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ADE9-20A2-4434-A840-FBEC6FB2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5AD8-6772-49D2-9247-AE45B951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4057-3DF3-4FC8-A787-5F0D6EA3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3B90-340C-42C1-BA05-8C924415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9DC3-43E0-4AF4-A5F8-662C97C6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274C-EC49-4B80-9FF4-88296BDB0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BE93-996A-4C65-B1F5-C531D1CC8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DB19-006F-43FF-BD55-B9FA75A5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5707-B34B-40BB-883D-0E664D7A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025E-CFAB-4E55-942A-83ED539E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A772-48FB-4C2D-A46A-855948EC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464D-D2A8-417A-B50F-46A98B60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63D0-2AFC-403D-93D6-5FABB03E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B573-5B40-436F-88A4-5DFC88B2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EFDF-E136-4B8D-ABF3-3A9297E0A4C2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3AA5-D187-4AF4-B122-B859CA18539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VECĀK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4360" y="160020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runājiet ar jaunieti sagatavošanos intervijai, uzvedību intervijas laikā un pēc t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c00000"/>
                </a:solidFill>
                <a:latin typeface="Calibri"/>
              </a:rPr>
              <a:t>Atcerēties, ka jau tagad tiek veidota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c00000"/>
                </a:solidFill>
                <a:latin typeface="Calibri"/>
              </a:rPr>
              <a:t>jaunieša-darbinieka reputācija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INTERVIJAS ETIĶET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8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3924360" y="4581360"/>
            <a:ext cx="129528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915920"/>
            <a:ext cx="6192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21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22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īt visu, ko var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st intervijas mērķi – kas jāuzzina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īt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t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68000" y="1557360"/>
            <a:ext cx="828036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erakstīt intervējamās personas vārdu, uzvārdu un amat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skaidrot, kur notiks intervija un kā tur nokļū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ekavēt, taču neierasties arī pārāk savlaicīg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teikti informēt par kavēšanu vai neierašan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evērot uzņēmuma iekšējās kārtības noteikum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a7b"/>
              </a:solidFill>
              <a:latin typeface="Calibri"/>
            </a:endParaRPr>
          </a:p>
          <a:p>
            <a:pPr lvl="1" marL="42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teikties par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gt ieteikt vēl kādu, kurš varētu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īt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t uzzināto informāciju un kā to izmantot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4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veltīto laiku un atbalstu, jaunietis parāda, ka prot novērtēt pūles un rada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7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2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68360" y="155736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ies savus aizspriedumus un stereotipus par darba tir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ies iespējas atbalstīt jaunieš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76720" y="4653000"/>
            <a:ext cx="2447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209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es varu palīdzēt savam bērnam iepazīt darba tirg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Mani aizspriedumi un stereotipi, to ietekme uz manu bēr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konkrētas profesijas pārstāvi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konkrētas darba vietas darbiniek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pieredzējis darba meklētāj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pilsētas/ciema/novada iedzīvotāj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Latvijas pilsoni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VARU PALĪDZĒT SAVAM BĒRNAM IEPAZĪT DARBA TIRG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2" descr="builds,business,businessmen,challenges,complete,Concepts,Fotolia,ideas,jigsaws,men,Photographs,pieces,pushes,puzzles,solutions,solve,struggles,teams,teamwork,work"/>
          <p:cNvPicPr/>
          <p:nvPr/>
        </p:nvPicPr>
        <p:blipFill>
          <a:blip r:embed="rId1"/>
          <a:srcRect l="9303" t="16281" r="9280" b="13932"/>
          <a:stretch/>
        </p:blipFill>
        <p:spPr>
          <a:xfrm>
            <a:off x="5867280" y="4324320"/>
            <a:ext cx="223380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557000"/>
            <a:ext cx="82296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Aizspriedumi vai stereotipi var atturēt jaunieti no mēģinājumiem iepazīt noteiktas profesionālās jom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egatīva pieredze var radīt negatīvu attieksmi pret darba devējiem, darba interviju vai noteiktām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ANI AIZSPRIEDUMI UN STEREOTIPI PAR DARBA TIRG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800080"/>
                </a:solidFill>
                <a:latin typeface="Calibri"/>
              </a:rPr>
              <a:t>AIZSPRIEDUMI UN STEREOTIPI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412640"/>
            <a:ext cx="8650080" cy="53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m jābūt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s nedrīkst būt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ir prestiž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nav prestiž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ir labi apmaksāt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nav labi apmaksāt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 devēji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 devēji nav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Cilvēki ar profesionālo izglītību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Cilvēki ar augstāko izglītību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9" name="Picture 7" descr="negative.WMF"/>
          <p:cNvPicPr/>
          <p:nvPr/>
        </p:nvPicPr>
        <p:blipFill>
          <a:blip r:embed="rId1"/>
          <a:srcRect l="8527" t="8641" r="8984" b="12122"/>
          <a:stretch/>
        </p:blipFill>
        <p:spPr>
          <a:xfrm>
            <a:off x="7164360" y="4941720"/>
            <a:ext cx="17146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360" y="155736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2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JIET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24000" y="1844640"/>
            <a:ext cx="8424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līdziet jaunietim sagatavot jautājumus, ko uzdot, norādiet uz tēmām, par kurām jautāt un paskaidrojiet, kāpēc to ir svarīgi uzzināt.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5" name="Picture 5" descr="academic,careers,children,daughters,education,employees,families,females,girls,instructors,jobs,mothers,occupations,parents,people,people at work,persons,schools,students,teachers,tutors,vocations,women,workers,working"/>
          <p:cNvPicPr/>
          <p:nvPr/>
        </p:nvPicPr>
        <p:blipFill>
          <a:blip r:embed="rId1"/>
          <a:stretch/>
        </p:blipFill>
        <p:spPr>
          <a:xfrm>
            <a:off x="3348000" y="378936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10:33:26Z</dcterms:modified>
  <cp:revision>374</cp:revision>
  <dc:subject/>
  <dc:title>Slide 1</dc:title>
</cp:coreProperties>
</file>